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239-2B35-4C93-8515-6DE6FF67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74B-0C9E-4CA1-9ECF-EA1282F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3B5-E0FB-4331-8008-37ACCC25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C95-332B-4C9A-B5FB-472BFCCF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3B0-939F-49EA-BCF4-D8C3076D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4E5A-41FA-4C69-AB88-5EDC2B77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84A-4123-4F0F-8670-276598C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789-6D03-4CEC-AA85-F15045D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AF3-C714-429F-9443-02DC7A81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C447-7C2E-40FB-93DB-12E232FE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A35-6027-4ED6-BF83-63D9C0D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52A-661F-4DC9-8518-373C57F5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F9D-C5C1-4A43-951A-4A21782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855D-04A4-472E-AA9E-669FCEAA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1345-82E4-43DE-9570-F00BAB4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E8F8-E26B-4FC1-95A7-75799250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B565-916A-40E8-B31A-65EF9DCE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999-65D4-4B04-B080-A1DE80B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B7A-58F2-497C-9266-655BF89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56D-045B-40EF-87F2-E1AB9FC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4A9-C157-47EF-A423-6D6F3E0F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85D-058D-44CC-ADB7-3994078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9DF-9BE5-4539-86EB-64F87C0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8B6-49DC-45DF-900F-D9B7760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070-D13E-46CB-A6C4-3C96A8273D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06FF-5CBF-4EB3-8A2D-C23BA4DF4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onday, August 30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segment 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the distance formula to measur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efine congr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 (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 points, rays, lines,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AIMS WS, WS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uesday, August 31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ind the measure of an angle using a pro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is a postu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-WS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-Scientific Notation (pg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-Distance Formula (page 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ursday, September 2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Use angle 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lassify angles as acute, obtuse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What are congruent tri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dition Segment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ignment:  WS-Addition Segment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s and their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9-01T20:02:20Z</dcterms:modified>
  <cp:revision>32</cp:revision>
  <dc:subject/>
  <dc:title>Slide 1</dc:title>
</cp:coreProperties>
</file>